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3C8-569C-4C96-A634-7161574C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388-F528-4009-8D47-934B2261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DFC-58AD-49B0-B61A-23E9E5AA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BFD-E0E8-4716-B562-9E79629D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CE15-9847-42AA-882B-D120EE92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D708-F468-471F-BCC7-E6E57060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4296-B41D-4794-B4B5-77460123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18A4-49BD-4082-B940-6A6107F8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E0B4-1CB6-40B9-8C8A-2D84D447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4910-8D4E-416C-A97E-54AE68ED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9245-7C68-4034-A1E8-41761999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4C1-F799-41EF-AA26-18CE7AA1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F533-4486-45F4-8FEC-7798AFEF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5C24-123E-4F9F-919D-D2F95DA4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12EE-D9AD-4A81-91C3-D1AC11CC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644D-757E-46D1-A3B8-2A0943A9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1288-1E9D-4928-9243-FD6BAEA3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D7D89-ECC0-49E6-8EF2-5CBD8018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EE7F1-EE95-4086-A9FE-C6EBD614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4F38B-2B1A-4564-A286-ED7CB8B2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D4EA5-E4DA-4885-BA16-9CCCE9F2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E10D0-6092-4ACA-AE24-8DE8E219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3AB-988F-4A81-A31E-AFF6A73E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9A11D-3F85-4017-8175-0B8FDBE8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50675-12F8-46E0-B280-216EDDCF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A82E1-BF8F-4313-BB2A-C03F897A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85B4C-BD2D-4AC9-98E7-68932E7D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ABB31-F8FB-4994-878C-8E085459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25FCD-7790-4331-976A-9EE09C5C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9BECC-920A-486E-8C99-845DDBBB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C8CF6-1523-4B4B-88B0-ED217445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D1517-43BE-433B-8AD9-E73276AD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C3501-1FC3-4D27-9030-2B1A835F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087-FDF0-44B5-B689-148B3B61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1551E-6B70-46CC-B33B-E37421AC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B39E9-E026-4F38-9A92-D867986C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5EB5E-9DDE-4350-B59F-A0F8C25E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8A54D-194E-4192-9D74-B9268F27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A914E-2F70-428C-8419-F10DB483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6F1E6-C6F3-49AD-BD46-8CF0C808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E14E5-16E4-417D-A910-3591F4D2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60E62-D906-457D-A78F-582E3B33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CB50A-2CB3-48E6-A833-5D9C5D8D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922-B1D2-4DBA-B5A0-82B962D3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E64C-C7AD-476C-8908-E650983E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BB7-C578-4C95-B7D8-CB8FD79D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6CA-29DC-49D8-BA87-15D4EC21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682-1334-45BB-B6AF-0E7A3F2F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F230-BDED-4AB8-A5CD-960D2480EC1E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B5C1-9639-43C2-BF79-FEA5AF726733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2B0F-8181-4941-8A1E-023249285A21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181C-334A-40F9-A097-42D6EE2981F9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esting Tika Format Pars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is a test document to ensure that we (naming no names) hasn't broken the Tika format parser ag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rangely it seems that if Tika is broken then the GATE document is created without </a:t>
            </a:r>
            <a:r>
              <a:rPr b="0" lang="en-GB" sz="2600" spc="-1" strike="noStrike">
                <a:solidFill>
                  <a:srgbClr val="ff0000"/>
                </a:solidFill>
                <a:latin typeface="Constantia"/>
              </a:rPr>
              <a:t>error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but with no content which is a </a:t>
            </a:r>
            <a:r>
              <a:rPr b="0" i="1" lang="en-GB" sz="2600" spc="-1" strike="noStrike">
                <a:solidFill>
                  <a:srgbClr val="000000"/>
                </a:solidFill>
                <a:latin typeface="Constantia"/>
              </a:rPr>
              <a:t>bi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f a p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3:24:47Z</dcterms:created>
  <dc:creator>Mark A. Greenwood</dc:creator>
  <dc:description/>
  <dc:language>en-US</dc:language>
  <cp:lastModifiedBy>Mark A. Greenwood</cp:lastModifiedBy>
  <dcterms:modified xsi:type="dcterms:W3CDTF">2012-01-16T13:26:56Z</dcterms:modified>
  <cp:revision>1</cp:revision>
  <dc:subject/>
  <dc:title>Testing Tika Format Parsers</dc:title>
</cp:coreProperties>
</file>