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4B3-1BEE-4CC0-8EDE-0A191A2E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D40-70AC-4806-AFEC-99ABA8B5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A1A-69F7-4DFD-B42B-A0B239C6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DAB-9EA4-436C-B2CC-269D9D03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3489-4E4B-477A-8CA5-BB7FD0E2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D303-1A90-488E-989B-6FB2E9EB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60FA-2EF7-4219-94DB-61FCE0DA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D6CC-CB13-470A-B6F5-38F24045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B1F5-A5C3-4EEC-B677-F107DB5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226A-849F-4B93-897B-B68EA2E0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E606-0DE0-4954-AD57-238C73D6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5CA-DABD-49DC-89B2-2B3C2C9B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D738-E87D-4922-BA03-31AE15D9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9991-D7C8-4308-BCCD-A29AF598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9B66-0F86-45D8-BDA4-68B70A4D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DD23-BF20-4887-929E-4ECEADBC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3C6B-D109-495A-AB9B-80BA77E7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9B45-B02D-469D-A3A5-E3FDC1B7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3059-124D-4381-B3CB-B130EFBD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74C6-DD15-4D5A-8833-01A10F04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17C84-CF40-40A9-9144-1FB2830A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A0E8-C938-49DC-BCB9-A224ECFA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E04-D430-4764-A94D-40DD1976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F2F4-93DB-4EFD-A024-C65F2233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89980-2FB0-4B4A-A034-B7B18DE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021A7-D3B7-4FF4-842A-72D9BE0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CD42B-2962-43C2-B81F-776C70BE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93BD-0CD6-4838-9441-43A36002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4BBF-2536-43CD-BBC9-D0E86958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81DE-4F8B-4C08-A694-7E832ACE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2724F-A4C3-4BB9-83D3-9499F946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5D4D0-627E-499B-B8FE-2EC30D3C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010D9-6C04-44EC-AB18-8DFE1C96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E28-EBB4-44C3-A86B-696F62C8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A7FE7-DC46-4777-A5D2-D303A8F3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E951-2627-4130-A85B-6D2C6557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24257-8616-4F7F-BED3-6E8EAD05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3CC9-6176-4BCB-AB21-CFFC7839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47CB8-D78F-48F4-A1DE-7AD749BB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0B7A7-39AE-4DD0-9EBB-F1D31B7B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07BF-BAF8-4E89-9D88-948E3E8A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F3561-1513-4129-9040-806C86B1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B57C-913A-4A76-B601-EF9E6799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9F2-BA20-4A71-8731-DC6623CD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5CB-A4FB-4EF2-8B46-4307E1D5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459-56D6-4046-ACB4-C298A6FF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660-637A-4FE8-9D67-D485CA1F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0A3-6A58-42CC-A0AE-4D88A023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837A-4A71-4281-A906-98E9813E5351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C407-958A-4D36-876E-7D3EF5FBF76D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3C73-E1E2-4693-8844-651ADD7C6AAB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0225-7E2C-4291-B47D-5C9A3207438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esting Tika Format Pars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is a test document to ensure that we (naming no names) hasn't broken the Tika format parser ag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ngely it seems that if Tika is broken then the GATE document is created without </a:t>
            </a:r>
            <a:r>
              <a:rPr b="0" lang="en-GB" sz="2600" spc="-1" strike="noStrike">
                <a:solidFill>
                  <a:srgbClr val="ff0000"/>
                </a:solidFill>
                <a:latin typeface="Constantia"/>
              </a:rPr>
              <a:t>erro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but with no content which is a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bi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f a p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3:24:47Z</dcterms:created>
  <dc:creator>Mark A. Greenwood</dc:creator>
  <dc:description/>
  <dc:language>en-US</dc:language>
  <cp:lastModifiedBy>Mark A. Greenwood</cp:lastModifiedBy>
  <dcterms:modified xsi:type="dcterms:W3CDTF">2012-01-16T13:26:56Z</dcterms:modified>
  <cp:revision>1</cp:revision>
  <dc:subject/>
  <dc:title>Testing Tika Format Parsers</dc:title>
</cp:coreProperties>
</file>